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45B-A075-4376-A98B-2F4223DF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DA5-17CF-42F4-95BB-E0976F2C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B14-3723-406B-ADDD-B9AA2AE0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CFE-BAB4-49AC-9F49-5BC55DB3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A35-F44E-4950-BE90-391A7FE7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B8F-F785-48D0-B727-9B16864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2F8-9D6F-411A-87CF-45B9D5FF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0E6-9741-4C5D-A06F-0D939DED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E44-14AD-4995-9187-C49B6B89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9F6-808A-4734-9BDA-7326EC1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DF4-C260-4E2F-8950-8DF09DC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DCD-55A9-438A-A868-D6D2FDE6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754C-0190-405F-870E-6C2CB570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s.SP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772400" cy="4916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410080" y="640080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age: http://rayfo.co.uk/page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935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19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of the following is a reason Irish immigrants were treated poor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971800"/>
            <a:ext cx="79250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skillfulness in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history of attacking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poverty and willingness to wor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low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sk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93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immigration to the United States in the middle 1800s affect city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276720"/>
            <a:ext cx="830592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a more equal distribution of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the growth of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urb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ended the reform mov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93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long did most unskilled laborer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276720"/>
            <a:ext cx="792468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hours a day, six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hours a day, seven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hours a day, seven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hours a day, seven day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93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period 1840-1860 which countries supplied the largest numbers of immigrants into the United States? (CCS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048120"/>
            <a:ext cx="53341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 and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many and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aly and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xico and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352680" cy="1828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does the political cartoon sh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21020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6951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 of a new law limiting immigr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ed for skilled immigrants to fill jobs created by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om after th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re of reformers to provide social service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gerness of the government to settle immigra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and rater than the eastern industrial cit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1036" t="0" r="30793" b="0"/>
          <a:stretch/>
        </p:blipFill>
        <p:spPr>
          <a:xfrm>
            <a:off x="3429000" y="0"/>
            <a:ext cx="5715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686800" cy="1219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ree important changes in the pattern of immigration to the U.S. from 1854 to 1907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0" t="6110" r="10858" b="0"/>
          <a:stretch/>
        </p:blipFill>
        <p:spPr>
          <a:xfrm>
            <a:off x="533520" y="0"/>
            <a:ext cx="8610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534520" cy="1904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63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ain why one of the changes you identified happene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efer to previous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2:43:19Z</dcterms:created>
  <dc:creator>Magner</dc:creator>
  <dc:description/>
  <dc:language>en-US</dc:language>
  <cp:lastModifiedBy>Magner</cp:lastModifiedBy>
  <dcterms:modified xsi:type="dcterms:W3CDTF">2009-08-30T22:06:47Z</dcterms:modified>
  <cp:revision>11</cp:revision>
  <dc:subject/>
  <dc:title>Slide 1</dc:title>
</cp:coreProperties>
</file>